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wmf" ContentType="image/x-wmf"/>
  <Override PartName="/ppt/media/image28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7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9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13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300" spc="-1" strike="noStrike" u="sng">
                <a:solidFill>
                  <a:srgbClr val="c00000"/>
                </a:solidFill>
                <a:uFillTx/>
                <a:latin typeface="Cambria"/>
              </a:rPr>
              <a:t>Click to move the slide</a:t>
            </a: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9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D66C4-4CB9-494D-859E-73F9A903BD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F7B10-7FFF-49EE-91FE-3B0F0BE678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12D7C-E2D6-4EB4-91AB-0FEECE1097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8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75AA3-97E8-47BA-9238-B0D59A018C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6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DAB80-56F0-463C-867A-1D9EA0A5BC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42920" y="949320"/>
            <a:ext cx="6248520" cy="4687920"/>
          </a:xfrm>
          <a:prstGeom prst="rect">
            <a:avLst/>
          </a:prstGeom>
          <a:ln w="0">
            <a:noFill/>
          </a:ln>
        </p:spPr>
      </p:sp>
      <p:sp>
        <p:nvSpPr>
          <p:cNvPr id="368" name="Text Box 2"/>
          <p:cNvSpPr/>
          <p:nvPr/>
        </p:nvSpPr>
        <p:spPr>
          <a:xfrm>
            <a:off x="833400" y="5938920"/>
            <a:ext cx="66675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FC6D9-97BA-434A-BB9B-06C5E313FF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1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F7946-E2AA-4F49-B155-5E6EAB66FA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4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A5487-1FE3-4B5B-B460-3D5495336A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7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731BA-9B37-4ECD-AEB1-BC96D66B35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0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CDC20-632B-457B-83CA-57D3B15E83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83" name="Text Box 2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B42A2-BA7C-4DEF-B335-3C8B0B8CF0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DBDB9-003A-439A-9D92-61AFD73372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D3191-799B-4D84-9BE4-10F502A19A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92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86F71-3C54-4E9F-86D9-9DB01CEF1D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D466F-133B-4DE0-ABEC-C4D9AC3DAC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95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4C848-0B51-46FF-B6E0-3D23D392A3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9DAB3-4877-4598-B268-0D449BE418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9" name="Text Box 3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9414B-5826-4321-8E99-AF627D66AE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02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58C1D-32AD-49E4-9430-D4B6CCC221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40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AE10E-8015-495C-BE07-E62E55D2BC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08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4F8E9-F03C-46FF-8923-A86A3A3C8C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42920" y="949320"/>
            <a:ext cx="6248520" cy="4687920"/>
          </a:xfrm>
          <a:prstGeom prst="rect">
            <a:avLst/>
          </a:prstGeom>
          <a:ln w="0">
            <a:noFill/>
          </a:ln>
        </p:spPr>
      </p:sp>
      <p:sp>
        <p:nvSpPr>
          <p:cNvPr id="411" name="Text Box 2"/>
          <p:cNvSpPr/>
          <p:nvPr/>
        </p:nvSpPr>
        <p:spPr>
          <a:xfrm>
            <a:off x="833400" y="5938920"/>
            <a:ext cx="66675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0787C-348E-4505-8B18-C1648BD163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14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C6D68-3280-47A4-AB0F-E8BDC8493D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9D392-F698-4A50-A7C3-E79D6C6946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E4A20-FD58-4E2E-89B1-0470B350A7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AB9EC-F20C-469F-9490-97C4E4A75D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F4007-7BA1-4D02-AD72-3FCE6FD17C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E7C3E-0F57-4417-805D-502FDC8E00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A8AF0-C4F8-4B51-AEAB-FDF9B12210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6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81F9-D6FB-4A3E-8840-87366604B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9188-30E7-4B3D-9057-9418B08B0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301F-1700-427A-9FA0-4E2927A5D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DF7C-0E42-4D85-A324-9C394F47C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22D-47A7-4B64-9CF6-45A4D4EE1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204-7DD7-4B9C-95CF-CE2A1B5F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85B-AA09-48BF-8D00-C0557746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836-7056-4BDA-B092-2E1C54C6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F92-F218-4A72-BC70-0281B53B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6D4-4953-435A-B101-10F15351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958-25AA-44F7-9398-FFA7C4F8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C82F-0E15-475D-9D11-38163E4A5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893-A105-4765-A78A-DCCA5076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E4F-8187-45BF-9566-6DE717A6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F1B-38AF-4901-9B18-A0267C61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B25-4431-4F89-B97C-DA914061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C5C-E556-424D-9FC8-24A8DB525B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E6231-0B39-45EB-AEE5-89CC327D35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DDF6B-4436-49E6-ACBC-487F80FC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75336-91EF-4206-AD84-683FEC6F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815D2-C97A-4945-B989-DE212878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99A79-0A39-47D9-9F52-711DE3B7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0E53-FEDC-4658-A553-7E3966EA6C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4BC69-BB95-4D3D-B710-8FD7EF17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0AF6D-5B84-4D20-A3E7-E53ED3FE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9DC30-E457-490A-AE08-449E12B3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BC8A0-7106-401A-9C8D-2A4E1D2D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6C99F-69F7-46F0-A039-E332F24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A2713-BC41-4595-9FCA-3124983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7FF5-D326-48D2-BD09-99F3DD9CC0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DB8A3-69AB-43F5-B65D-89164025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1A2F8-35EC-4D51-9B12-05E2254A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8BEE6-8C30-4E1E-969E-B38A4923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42E4-5145-41C6-97C0-BE1ACB9DD0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539B4-D670-49C9-A884-4290901D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6624D-AB06-498B-8A68-EC4D08E9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2F697-80AA-4EED-A8AA-1856D91E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5566B-CE50-4FF0-B18D-E0705CC2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DCB93-0664-4FD3-A8EB-AC9E81FB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423A9-2237-4624-B56A-4E76B1A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E6495-49B0-45CA-9068-95AEB061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15580-808B-4952-9586-40AC2346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4F4B1-08B1-4562-BB84-9B685668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5FCD-15E1-47FF-BF3B-0FC6A8D2A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9368-332A-47D2-92A8-A8EDEA68A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D39D-5FED-4C79-BA71-6AA740525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D95A-A05C-4FBC-8A6A-48C4DDA88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392C-4E21-41AE-98A1-37F310E86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300" spc="-1" strike="noStrike" u="sng">
                <a:solidFill>
                  <a:srgbClr val="c00000"/>
                </a:solidFill>
                <a:uFillTx/>
                <a:latin typeface="Cambria"/>
              </a:rPr>
              <a:t>Click to edit the title text format</a:t>
            </a: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48134-7D31-4849-BE73-7912041B9F9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1574640" cy="157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2"/>
          </p:nvPr>
        </p:nvSpPr>
        <p:spPr>
          <a:xfrm>
            <a:off x="503280" y="7007400"/>
            <a:ext cx="234792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C8E84-BF97-464B-B574-061110985091}" type="datetime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8503920" y="7322760"/>
            <a:ext cx="106668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800" spc="-1" strike="noStrike">
                <a:solidFill>
                  <a:srgbClr val="bfbfb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6CDC1492-4FE3-4458-8DA2-64E8E72F03BA}" type="slidenum">
              <a:rPr b="0" lang="ru-RU" sz="800" spc="-1" strike="noStrike">
                <a:solidFill>
                  <a:srgbClr val="bfbfbf"/>
                </a:solidFill>
                <a:latin typeface="Calibri"/>
                <a:ea typeface="Segoe U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-9360" y="-7920"/>
            <a:ext cx="10101240" cy="1147680"/>
          </a:xfrm>
          <a:custGeom>
            <a:avLst/>
            <a:gdLst>
              <a:gd name="textAreaLeft" fmla="*/ 0 w 10101240"/>
              <a:gd name="textAreaRight" fmla="*/ 10101600 w 10101240"/>
              <a:gd name="textAreaTop" fmla="*/ 0 h 1147680"/>
              <a:gd name="textAreaBottom" fmla="*/ 1147680 h 1147680"/>
            </a:gdLst>
            <a:ahLst/>
            <a:rect l="textAreaLeft" t="textAreaTop" r="textAreaRight" b="textAreaBottom"/>
            <a:pathLst>
              <a:path w="10101263" h="1147763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7058"/>
                </a:srgbClr>
              </a:gs>
              <a:gs pos="100000">
                <a:srgbClr val="00c4cd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48290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5249863" h="703263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>
                  <a:alpha val="32156"/>
                </a:srgbClr>
              </a:gs>
              <a:gs pos="100000">
                <a:srgbClr val="008abf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-93600" y="-545760"/>
            <a:ext cx="10246680" cy="2250000"/>
            <a:chOff x="-93600" y="-545760"/>
            <a:chExt cx="10246680" cy="2250000"/>
          </a:xfrm>
        </p:grpSpPr>
        <p:sp>
          <p:nvSpPr>
            <p:cNvPr id="86" name="AutoShape 4"/>
            <p:cNvSpPr/>
            <p:nvPr/>
          </p:nvSpPr>
          <p:spPr>
            <a:xfrm rot="21420000">
              <a:off x="-55440" y="-280800"/>
              <a:ext cx="10162800" cy="1720800"/>
            </a:xfrm>
            <a:custGeom>
              <a:avLst/>
              <a:gdLst>
                <a:gd name="textAreaLeft" fmla="*/ 0 w 10162800"/>
                <a:gd name="textAreaRight" fmla="*/ 10162800 w 101628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6374" h="752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5"/>
            <p:cNvSpPr/>
            <p:nvPr/>
          </p:nvSpPr>
          <p:spPr>
            <a:xfrm rot="21420000">
              <a:off x="-51840" y="-83880"/>
              <a:ext cx="10175400" cy="1404360"/>
            </a:xfrm>
            <a:custGeom>
              <a:avLst/>
              <a:gdLst>
                <a:gd name="textAreaLeft" fmla="*/ 0 w 10175400"/>
                <a:gd name="textAreaRight" fmla="*/ 10175760 w 10175400"/>
                <a:gd name="textAreaTop" fmla="*/ 0 h 1404360"/>
                <a:gd name="textAreaBottom" fmla="*/ 1404720 h 1404360"/>
              </a:gdLst>
              <a:ahLst/>
              <a:rect l="textAreaLeft" t="textAreaTop" r="textAreaRight" b="textAreaBottom"/>
              <a:pathLst>
                <a:path w="6382" h="61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67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2133720"/>
            <a:ext cx="9067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503280" y="7007400"/>
            <a:ext cx="234792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9925A-0E40-47D7-AD14-47044F5A8DCB}" type="datetime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8736120" y="7007400"/>
            <a:ext cx="83664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A0F64EC-6B7E-48AA-AC7C-5196CC71A4CC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"/>
          <p:cNvSpPr/>
          <p:nvPr/>
        </p:nvSpPr>
        <p:spPr>
          <a:xfrm>
            <a:off x="-9360" y="-7920"/>
            <a:ext cx="10099440" cy="1147680"/>
          </a:xfrm>
          <a:custGeom>
            <a:avLst/>
            <a:gdLst>
              <a:gd name="textAreaLeft" fmla="*/ 0 w 10099440"/>
              <a:gd name="textAreaRight" fmla="*/ 10099800 w 10099440"/>
              <a:gd name="textAreaTop" fmla="*/ 0 h 1147680"/>
              <a:gd name="textAreaBottom" fmla="*/ 1147680 h 1147680"/>
            </a:gdLst>
            <a:ahLst/>
            <a:rect l="textAreaLeft" t="textAreaTop" r="textAreaRight" b="textAreaBottom"/>
            <a:pathLst>
              <a:path w="10099675" h="1147763">
                <a:moveTo>
                  <a:pt x="0" y="0"/>
                </a:moveTo>
                <a:lnTo>
                  <a:pt x="28057" y="0"/>
                </a:lnTo>
                <a:lnTo>
                  <a:pt x="28057" y="3188"/>
                </a:lnTo>
                <a:lnTo>
                  <a:pt x="0" y="31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48290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5249863" h="703263">
                <a:moveTo>
                  <a:pt x="0" y="0"/>
                </a:moveTo>
                <a:lnTo>
                  <a:pt x="14582" y="0"/>
                </a:lnTo>
                <a:lnTo>
                  <a:pt x="14582" y="1953"/>
                </a:lnTo>
                <a:lnTo>
                  <a:pt x="0" y="195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21420000">
            <a:off x="-20520" y="223560"/>
            <a:ext cx="10099440" cy="714240"/>
          </a:xfrm>
          <a:custGeom>
            <a:avLst/>
            <a:gdLst>
              <a:gd name="textAreaLeft" fmla="*/ 0 w 10099440"/>
              <a:gd name="textAreaRight" fmla="*/ 10099800 w 100994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0099676" h="714375">
                <a:moveTo>
                  <a:pt x="0" y="0"/>
                </a:moveTo>
                <a:lnTo>
                  <a:pt x="28057" y="0"/>
                </a:lnTo>
                <a:lnTo>
                  <a:pt x="28057" y="1986"/>
                </a:lnTo>
                <a:lnTo>
                  <a:pt x="0" y="1986"/>
                </a:lnTo>
                <a:lnTo>
                  <a:pt x="0" y="0"/>
                </a:lnTo>
                <a:close/>
              </a:path>
            </a:pathLst>
          </a:custGeom>
          <a:noFill/>
          <a:ln w="10800">
            <a:solidFill>
              <a:srgbClr val="008a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 rot="21420000">
            <a:off x="-15480" y="304560"/>
            <a:ext cx="10113840" cy="583920"/>
          </a:xfrm>
          <a:custGeom>
            <a:avLst/>
            <a:gdLst>
              <a:gd name="textAreaLeft" fmla="*/ 0 w 10113840"/>
              <a:gd name="textAreaRight" fmla="*/ 10114200 w 1011384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10113963" h="584200">
                <a:moveTo>
                  <a:pt x="0" y="0"/>
                </a:moveTo>
                <a:lnTo>
                  <a:pt x="28096" y="0"/>
                </a:lnTo>
                <a:lnTo>
                  <a:pt x="28096" y="1623"/>
                </a:lnTo>
                <a:lnTo>
                  <a:pt x="0" y="1623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7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8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C0CA2-EEB7-4798-82C6-492F2A7373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682560" y="279360"/>
            <a:ext cx="90709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Русский язы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500000" y="1779480"/>
            <a:ext cx="2172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entury"/>
              </a:rPr>
              <a:t>1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573200" y="3090960"/>
            <a:ext cx="696744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E4058-F863-42CF-936E-819C4DD8F8A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A6803-ECBE-4168-88E5-CCD660AFA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992160" y="1160640"/>
            <a:ext cx="8399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736120" y="7007400"/>
            <a:ext cx="8395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A328B-6371-4EDA-BF65-B8CB2DA0447C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rcRect l="0" t="0" r="0" b="28537"/>
          <a:stretch/>
        </p:blipFill>
        <p:spPr>
          <a:xfrm>
            <a:off x="1833480" y="272880"/>
            <a:ext cx="6734160" cy="671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503280" y="611280"/>
            <a:ext cx="90694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300"/>
            </a:br>
            <a:br>
              <a:rPr sz="7300"/>
            </a:br>
            <a:endParaRPr b="0" lang="en-US" sz="7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План работы: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1008000" y="2808360"/>
            <a:ext cx="87854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Что такое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 Какую роль выполняет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В каких словах ставится       уда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1655640" y="63360"/>
            <a:ext cx="624204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755640" y="824040"/>
            <a:ext cx="85694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12720" y="2494080"/>
            <a:ext cx="7056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Ударение- это выделение голосом одного из слогов в слов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503280" y="755640"/>
            <a:ext cx="90694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mbria"/>
              </a:rPr>
              <a:t>Что такое ударение? </a:t>
            </a:r>
            <a:br>
              <a:rPr sz="4000"/>
            </a:b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Произнесите слова, выделяя уда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539640" y="1779480"/>
            <a:ext cx="152244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3"/>
          <a:srcRect l="0" t="10630" r="0" b="14372"/>
          <a:stretch/>
        </p:blipFill>
        <p:spPr>
          <a:xfrm>
            <a:off x="7683480" y="4208400"/>
            <a:ext cx="2198880" cy="1720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4"/>
          <a:srcRect l="0" t="0" r="23560" b="0"/>
          <a:stretch/>
        </p:blipFill>
        <p:spPr>
          <a:xfrm>
            <a:off x="2468520" y="3565440"/>
            <a:ext cx="1774800" cy="3238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5"/>
          <a:stretch/>
        </p:blipFill>
        <p:spPr>
          <a:xfrm>
            <a:off x="4821120" y="4773600"/>
            <a:ext cx="2646360" cy="1992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6"/>
          <a:stretch/>
        </p:blipFill>
        <p:spPr>
          <a:xfrm>
            <a:off x="7540560" y="1922400"/>
            <a:ext cx="1617840" cy="1381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7"/>
          <a:stretch/>
        </p:blipFill>
        <p:spPr>
          <a:xfrm>
            <a:off x="4608360" y="2195640"/>
            <a:ext cx="238464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755640" y="-558720"/>
            <a:ext cx="85694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368360" y="1547640"/>
            <a:ext cx="705636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ногда ударение меняет значение слова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танцевальные)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пара,дыма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 flipV="1">
            <a:off x="3311640" y="2766960"/>
            <a:ext cx="131760" cy="22248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 flipV="1">
            <a:off x="3887640" y="3559320"/>
            <a:ext cx="136800" cy="22536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2"/>
          <a:stretch/>
        </p:blipFill>
        <p:spPr>
          <a:xfrm>
            <a:off x="2612880" y="720720"/>
            <a:ext cx="40100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787320" y="708120"/>
            <a:ext cx="8032680" cy="56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673200" y="922320"/>
            <a:ext cx="8037360" cy="5434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3"/>
          <a:srcRect l="0" t="96947" r="94066" b="0"/>
          <a:stretch/>
        </p:blipFill>
        <p:spPr>
          <a:xfrm>
            <a:off x="708120" y="6378480"/>
            <a:ext cx="2016000" cy="703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4"/>
          <a:srcRect l="50332" t="0" r="0" b="0"/>
          <a:stretch/>
        </p:blipFill>
        <p:spPr>
          <a:xfrm>
            <a:off x="4646520" y="1181160"/>
            <a:ext cx="3946680" cy="5371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5"/>
          <a:srcRect l="93592" t="96947" r="0" b="0"/>
          <a:stretch/>
        </p:blipFill>
        <p:spPr>
          <a:xfrm>
            <a:off x="6615000" y="6378480"/>
            <a:ext cx="1968480" cy="6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rcRect l="0" t="0" r="49935" b="0"/>
          <a:stretch/>
        </p:blipFill>
        <p:spPr>
          <a:xfrm>
            <a:off x="314280" y="787320"/>
            <a:ext cx="4332240" cy="5748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rcRect l="50069" t="0" r="0" b="0"/>
          <a:stretch/>
        </p:blipFill>
        <p:spPr>
          <a:xfrm>
            <a:off x="4646520" y="787320"/>
            <a:ext cx="4321440" cy="5748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rcRect l="1486" t="95966" r="93508" b="978"/>
          <a:stretch/>
        </p:blipFill>
        <p:spPr>
          <a:xfrm>
            <a:off x="314280" y="6299280"/>
            <a:ext cx="1739880" cy="709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rcRect l="92949" t="95966" r="1581" b="978"/>
          <a:stretch/>
        </p:blipFill>
        <p:spPr>
          <a:xfrm>
            <a:off x="7245360" y="6378480"/>
            <a:ext cx="1689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81B1E-DEC5-478E-9B3A-538C9AA3FA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EB5E4-539A-4B21-8C40-9A142C2B4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rcRect l="7478" t="3490" r="5902" b="3490"/>
          <a:stretch/>
        </p:blipFill>
        <p:spPr>
          <a:xfrm>
            <a:off x="754200" y="604800"/>
            <a:ext cx="8731080" cy="63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rcRect l="0" t="0" r="50536" b="0"/>
          <a:stretch/>
        </p:blipFill>
        <p:spPr>
          <a:xfrm>
            <a:off x="314280" y="944640"/>
            <a:ext cx="4253040" cy="582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3"/>
          <a:srcRect l="49721" t="0" r="0" b="0"/>
          <a:stretch/>
        </p:blipFill>
        <p:spPr>
          <a:xfrm>
            <a:off x="4567320" y="826920"/>
            <a:ext cx="4410000" cy="5945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"/>
          <p:cNvPicPr/>
          <p:nvPr/>
        </p:nvPicPr>
        <p:blipFill>
          <a:blip r:embed="rId4"/>
          <a:srcRect l="935" t="95339" r="93851" b="963"/>
          <a:stretch/>
        </p:blipFill>
        <p:spPr>
          <a:xfrm>
            <a:off x="236520" y="6458040"/>
            <a:ext cx="1338120" cy="64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5"/>
          <a:srcRect l="93103" t="95339" r="1588" b="0"/>
          <a:stretch/>
        </p:blipFill>
        <p:spPr>
          <a:xfrm>
            <a:off x="7718400" y="6535800"/>
            <a:ext cx="110160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503280" y="324000"/>
            <a:ext cx="90709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mbria"/>
              </a:rPr>
              <a:t>В каких словах ставится       ударение 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mbria"/>
              </a:rPr>
              <a:t>В каждом слове спряталось животное, насекомое или птица. Найди их и напиши эти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503280" y="2771640"/>
            <a:ext cx="907092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елевизор, коньки, листок, мужчина, ракита, чертёж, стриж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224000" y="3419640"/>
            <a:ext cx="86364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 flipV="1">
            <a:off x="3600360" y="3414600"/>
            <a:ext cx="1224000" cy="2088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5761080" y="3419640"/>
            <a:ext cx="85716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 flipV="1">
            <a:off x="1295280" y="4135320"/>
            <a:ext cx="687600" cy="1440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3456000" y="4140360"/>
            <a:ext cx="100008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6696000" y="4140360"/>
            <a:ext cx="64764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863640" y="4788000"/>
            <a:ext cx="144000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039680" y="2136600"/>
            <a:ext cx="853308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Знак ударения не ставится над            словом из одного слога и над   буквой ё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8AC96-7CB5-45FA-8DC5-F650AD64D2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7164C-7F7F-4F08-B06C-C5471BB36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992160" y="1160640"/>
            <a:ext cx="8399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лнце село за се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м ужасно повезл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в гости к Ударению сход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все его секреты мы раскры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 </a:t>
            </a:r>
            <a:r>
              <a:rPr b="1" lang="ru-RU" sz="3600" spc="-1" strike="noStrike">
                <a:solidFill>
                  <a:srgbClr val="ff1a1a"/>
                </a:solidFill>
                <a:latin typeface="Calibri"/>
              </a:rPr>
              <a:t>Ударен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  конечно, «мОлодец»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каждый из нас «молодЕц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7416720" y="1619280"/>
            <a:ext cx="181152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rcRect l="2776" t="3701" r="3701" b="7407"/>
          <a:stretch/>
        </p:blipFill>
        <p:spPr>
          <a:xfrm>
            <a:off x="1468440" y="1557360"/>
            <a:ext cx="8334360" cy="55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503280" y="708120"/>
            <a:ext cx="9069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 u="sng">
                <a:solidFill>
                  <a:srgbClr val="c00000"/>
                </a:solidFill>
                <a:uFillTx/>
                <a:latin typeface="Cambria"/>
              </a:rPr>
              <a:t>Молодцы! </a:t>
            </a:r>
            <a:br>
              <a:rPr sz="6000"/>
            </a:br>
            <a:br>
              <a:rPr sz="6000"/>
            </a:br>
            <a:r>
              <a:rPr b="1" i="1" lang="ru-RU" sz="6000" spc="-1" strike="noStrike" u="sng">
                <a:solidFill>
                  <a:srgbClr val="c00000"/>
                </a:solidFill>
                <a:uFillTx/>
                <a:latin typeface="Cambria"/>
              </a:rPr>
              <a:t>Спасибо за урок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4897440" y="285120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9540720" y="5637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795240" y="3203640"/>
            <a:ext cx="8568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BB9D4-A89B-4307-9BBE-CDE788D2DE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6726A-6FB7-4979-8DF3-1465FA8A8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rcRect l="0" t="0" r="0" b="69481"/>
          <a:stretch/>
        </p:blipFill>
        <p:spPr>
          <a:xfrm>
            <a:off x="276120" y="1398600"/>
            <a:ext cx="9802800" cy="174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rcRect l="0" t="0" r="31168" b="69481"/>
          <a:stretch/>
        </p:blipFill>
        <p:spPr>
          <a:xfrm>
            <a:off x="434880" y="3144960"/>
            <a:ext cx="6748560" cy="174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rcRect l="0" t="0" r="31168" b="69481"/>
          <a:stretch/>
        </p:blipFill>
        <p:spPr>
          <a:xfrm>
            <a:off x="595440" y="5049720"/>
            <a:ext cx="6748200" cy="1746360"/>
          </a:xfrm>
          <a:prstGeom prst="rect">
            <a:avLst/>
          </a:prstGeom>
          <a:ln w="0">
            <a:noFill/>
          </a:ln>
        </p:spPr>
      </p:pic>
      <p:sp>
        <p:nvSpPr>
          <p:cNvPr id="196" name="Oval 7"/>
          <p:cNvSpPr/>
          <p:nvPr/>
        </p:nvSpPr>
        <p:spPr>
          <a:xfrm>
            <a:off x="7340760" y="4017960"/>
            <a:ext cx="237960" cy="23796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626240" y="5889600"/>
            <a:ext cx="225360" cy="2253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866880" y="1574640"/>
            <a:ext cx="85676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300" spc="-1" strike="noStrike" u="sng">
                <a:solidFill>
                  <a:srgbClr val="000000"/>
                </a:solidFill>
                <a:uFillTx/>
                <a:latin typeface="Cambria"/>
              </a:rPr>
              <a:t>Т А И З Н Ы О Р У  Э</a:t>
            </a:r>
            <a:endParaRPr b="0" lang="en-US" sz="7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13C62-3405-4DC3-94E5-E0D1AAD5A5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A2AC7-F52E-42BA-86B1-A0A09B25A0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87760" y="2913120"/>
            <a:ext cx="50760" cy="3228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022480" y="3463920"/>
            <a:ext cx="739800" cy="714240"/>
          </a:xfrm>
          <a:prstGeom prst="rect">
            <a:avLst/>
          </a:prstGeom>
          <a:solidFill>
            <a:srgbClr val="c0504d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786720" y="2984400"/>
            <a:ext cx="739440" cy="714600"/>
          </a:xfrm>
          <a:prstGeom prst="rect">
            <a:avLst/>
          </a:prstGeom>
          <a:solidFill>
            <a:srgbClr val="0070c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786720" y="4811760"/>
            <a:ext cx="793440" cy="714240"/>
          </a:xfrm>
          <a:prstGeom prst="rect">
            <a:avLst/>
          </a:prstGeom>
          <a:solidFill>
            <a:srgbClr val="00b05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A3AA4-5CC6-4CBC-85F2-3560349359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7640D-5570-4624-BDAA-79AB28383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2598840" y="393696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960800" y="3936960"/>
            <a:ext cx="167976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98840" y="2441520"/>
            <a:ext cx="152352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040360" y="2441520"/>
            <a:ext cx="370188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я 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487760" y="2678040"/>
            <a:ext cx="473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780000" y="1495440"/>
            <a:ext cx="2626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ЗОВ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83FD2-2E12-4E62-A1A2-3ABE248AB4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B8ABD-FEA6-4228-B50E-DAC813FAB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2519280" y="3386160"/>
            <a:ext cx="167976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5040360" y="3386160"/>
            <a:ext cx="16794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071520" y="1731960"/>
            <a:ext cx="1112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275440" y="1654200"/>
            <a:ext cx="9381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4173480" y="2282760"/>
            <a:ext cx="78732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35229-A72D-4889-9B3C-92D933D7E6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23DD9-9C9B-4959-90E0-36639229F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654200" y="26780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16520" y="2678040"/>
            <a:ext cx="168084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6535800" y="25988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330800" y="1495440"/>
            <a:ext cx="1574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851520" y="1495440"/>
            <a:ext cx="1890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205000" y="1654200"/>
            <a:ext cx="102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905440" y="1258920"/>
            <a:ext cx="561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306600" y="1338120"/>
            <a:ext cx="770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866520" y="5591160"/>
            <a:ext cx="78220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ывод сделаем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колько частей  распалось каждое сло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B2C61-18A2-4B5B-9ED6-C75DD8F6BA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28666-325A-4646-A9F6-F59F070B2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654200" y="26780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016520" y="2678040"/>
            <a:ext cx="168084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6535800" y="25988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330800" y="1495440"/>
            <a:ext cx="1574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851520" y="1495440"/>
            <a:ext cx="1890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205000" y="1654200"/>
            <a:ext cx="102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5905440" y="1258920"/>
            <a:ext cx="561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306600" y="1338120"/>
            <a:ext cx="770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0" y="0"/>
            <a:ext cx="10080720" cy="28728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9802800" y="0"/>
            <a:ext cx="276120" cy="755964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108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7272360"/>
            <a:ext cx="10080720" cy="28728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276120" cy="755964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108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 rot="5400000">
            <a:off x="39600" y="-29880"/>
            <a:ext cx="506520" cy="5731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 rot="16200000">
            <a:off x="9529920" y="7013520"/>
            <a:ext cx="504720" cy="5875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0" y="7054920"/>
            <a:ext cx="573120" cy="5047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10980000">
            <a:off x="9559800" y="2520"/>
            <a:ext cx="525600" cy="59508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0" y="6048360"/>
            <a:ext cx="949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223040" y="7007400"/>
            <a:ext cx="23511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350AA-F164-415E-95EF-71AD99BB3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2"/>
          <a:stretch/>
        </p:blipFill>
        <p:spPr>
          <a:xfrm>
            <a:off x="214200" y="254160"/>
            <a:ext cx="9528120" cy="6905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3"/>
          <a:stretch/>
        </p:blipFill>
        <p:spPr>
          <a:xfrm>
            <a:off x="1935000" y="4400640"/>
            <a:ext cx="5658120" cy="1774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"/>
          <p:cNvPicPr/>
          <p:nvPr/>
        </p:nvPicPr>
        <p:blipFill>
          <a:blip r:embed="rId4"/>
          <a:stretch/>
        </p:blipFill>
        <p:spPr>
          <a:xfrm>
            <a:off x="1654200" y="3170160"/>
            <a:ext cx="3124080" cy="309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5"/>
          <a:stretch/>
        </p:blipFill>
        <p:spPr>
          <a:xfrm>
            <a:off x="1968480" y="2136600"/>
            <a:ext cx="5583240" cy="3838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/>
          <p:cNvPicPr/>
          <p:nvPr/>
        </p:nvPicPr>
        <p:blipFill>
          <a:blip r:embed="rId6"/>
          <a:stretch/>
        </p:blipFill>
        <p:spPr>
          <a:xfrm>
            <a:off x="3633840" y="2136600"/>
            <a:ext cx="2566800" cy="4125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"/>
          <p:cNvPicPr/>
          <p:nvPr/>
        </p:nvPicPr>
        <p:blipFill>
          <a:blip r:embed="rId7"/>
          <a:stretch/>
        </p:blipFill>
        <p:spPr>
          <a:xfrm>
            <a:off x="5141880" y="2136600"/>
            <a:ext cx="2648160" cy="3838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"/>
          <p:cNvPicPr/>
          <p:nvPr/>
        </p:nvPicPr>
        <p:blipFill>
          <a:blip r:embed="rId8"/>
          <a:stretch/>
        </p:blipFill>
        <p:spPr>
          <a:xfrm>
            <a:off x="5894280" y="2103480"/>
            <a:ext cx="1619280" cy="4071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"/>
          <p:cNvPicPr/>
          <p:nvPr/>
        </p:nvPicPr>
        <p:blipFill>
          <a:blip r:embed="rId9"/>
          <a:stretch/>
        </p:blipFill>
        <p:spPr>
          <a:xfrm>
            <a:off x="4529160" y="2001960"/>
            <a:ext cx="4349880" cy="426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"/>
          <p:cNvPicPr/>
          <p:nvPr/>
        </p:nvPicPr>
        <p:blipFill>
          <a:blip r:embed="rId10"/>
          <a:stretch/>
        </p:blipFill>
        <p:spPr>
          <a:xfrm>
            <a:off x="5018040" y="3608280"/>
            <a:ext cx="3603600" cy="2695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"/>
          <p:cNvPicPr/>
          <p:nvPr/>
        </p:nvPicPr>
        <p:blipFill>
          <a:blip r:embed="rId11"/>
          <a:stretch/>
        </p:blipFill>
        <p:spPr>
          <a:xfrm>
            <a:off x="7526160" y="4543560"/>
            <a:ext cx="1224000" cy="1592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1"/>
          <p:cNvSpPr/>
          <p:nvPr/>
        </p:nvSpPr>
        <p:spPr>
          <a:xfrm>
            <a:off x="434880" y="6249960"/>
            <a:ext cx="851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434880" y="4024440"/>
            <a:ext cx="52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434880" y="309600"/>
            <a:ext cx="74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з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2183040" y="353880"/>
            <a:ext cx="615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225680" y="368280"/>
            <a:ext cx="730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6978600" y="379440"/>
            <a:ext cx="680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рактор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8849880" y="406440"/>
            <a:ext cx="461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о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7797960" y="2351160"/>
            <a:ext cx="397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7829280" y="4284720"/>
            <a:ext cx="616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е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30"/>
          <p:cNvSpPr/>
          <p:nvPr/>
        </p:nvSpPr>
        <p:spPr>
          <a:xfrm>
            <a:off x="8612280" y="6451560"/>
            <a:ext cx="753840" cy="601560"/>
          </a:xfrm>
          <a:custGeom>
            <a:avLst/>
            <a:gdLst>
              <a:gd name="textAreaLeft" fmla="*/ 38880 w 753840"/>
              <a:gd name="textAreaRight" fmla="*/ 714960 w 75384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27065" h="21600">
                <a:moveTo>
                  <a:pt x="0" y="0"/>
                </a:moveTo>
                <a:lnTo>
                  <a:pt x="27065" y="0"/>
                </a:lnTo>
                <a:lnTo>
                  <a:pt x="27065" y="21600"/>
                </a:lnTo>
                <a:lnTo>
                  <a:pt x="0" y="21600"/>
                </a:lnTo>
                <a:close/>
              </a:path>
              <a:path fill="lightenLess" w="27065" h="21600">
                <a:moveTo>
                  <a:pt x="0" y="0"/>
                </a:moveTo>
                <a:lnTo>
                  <a:pt x="27065" y="0"/>
                </a:lnTo>
                <a:lnTo>
                  <a:pt x="25665" y="1400"/>
                </a:lnTo>
                <a:lnTo>
                  <a:pt x="1400" y="1400"/>
                </a:lnTo>
                <a:close/>
              </a:path>
              <a:path fill="darken" w="27065" h="21600">
                <a:moveTo>
                  <a:pt x="27065" y="0"/>
                </a:moveTo>
                <a:lnTo>
                  <a:pt x="27065" y="21600"/>
                </a:lnTo>
                <a:lnTo>
                  <a:pt x="25665" y="20200"/>
                </a:lnTo>
                <a:lnTo>
                  <a:pt x="25665" y="1400"/>
                </a:lnTo>
                <a:close/>
              </a:path>
              <a:path fill="darkenLess" w="27065" h="21600">
                <a:moveTo>
                  <a:pt x="27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65" y="20200"/>
                </a:lnTo>
                <a:close/>
              </a:path>
              <a:path fill="lighten" w="27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65" h="21600">
                <a:moveTo>
                  <a:pt x="13532" y="3837"/>
                </a:moveTo>
                <a:lnTo>
                  <a:pt x="16109" y="6448"/>
                </a:lnTo>
                <a:lnTo>
                  <a:pt x="16109" y="4707"/>
                </a:lnTo>
                <a:lnTo>
                  <a:pt x="17884" y="4707"/>
                </a:lnTo>
                <a:lnTo>
                  <a:pt x="17884" y="8224"/>
                </a:lnTo>
                <a:lnTo>
                  <a:pt x="20495" y="10800"/>
                </a:lnTo>
                <a:lnTo>
                  <a:pt x="18842" y="10800"/>
                </a:lnTo>
                <a:lnTo>
                  <a:pt x="18842" y="17989"/>
                </a:lnTo>
                <a:lnTo>
                  <a:pt x="8223" y="17989"/>
                </a:lnTo>
                <a:lnTo>
                  <a:pt x="8223" y="10800"/>
                </a:lnTo>
                <a:lnTo>
                  <a:pt x="6569" y="10800"/>
                </a:lnTo>
                <a:close/>
              </a:path>
              <a:path fill="darkenLess" w="27065" h="21600">
                <a:moveTo>
                  <a:pt x="16109" y="6448"/>
                </a:moveTo>
                <a:lnTo>
                  <a:pt x="16109" y="4707"/>
                </a:lnTo>
                <a:lnTo>
                  <a:pt x="17884" y="4707"/>
                </a:lnTo>
                <a:lnTo>
                  <a:pt x="17884" y="8224"/>
                </a:lnTo>
                <a:close/>
              </a:path>
              <a:path fill="darkenLess" w="27065" h="21600">
                <a:moveTo>
                  <a:pt x="12610" y="14299"/>
                </a:moveTo>
                <a:lnTo>
                  <a:pt x="14455" y="14299"/>
                </a:lnTo>
                <a:lnTo>
                  <a:pt x="14455" y="17989"/>
                </a:lnTo>
                <a:lnTo>
                  <a:pt x="18842" y="17989"/>
                </a:lnTo>
                <a:lnTo>
                  <a:pt x="18842" y="10800"/>
                </a:lnTo>
                <a:lnTo>
                  <a:pt x="8223" y="10800"/>
                </a:lnTo>
                <a:lnTo>
                  <a:pt x="8223" y="17989"/>
                </a:lnTo>
                <a:lnTo>
                  <a:pt x="12610" y="17989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7578720" y="6583320"/>
            <a:ext cx="87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 3 с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5Z</dcterms:created>
  <dc:creator>1</dc:creator>
  <dc:description/>
  <dc:language>en-US</dc:language>
  <cp:lastModifiedBy>Лидия</cp:lastModifiedBy>
  <dcterms:modified xsi:type="dcterms:W3CDTF">2020-03-31T09:09:56Z</dcterms:modified>
  <cp:revision>31</cp:revision>
  <dc:subject/>
  <dc:title>весна</dc:title>
</cp:coreProperties>
</file>